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76D-080A-40C9-89B2-60CD58E4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526-19B5-479A-B2D4-06A4DE4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241-2934-4B2A-BD50-3243805C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952-1DD0-408B-BD75-6FDFF97B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8E3-3A79-4F06-8F00-88418360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AA94-81FB-4771-AA05-6F561E1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A235-3A18-4936-AB7F-FD4BB3F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36E-A1B5-4CE4-857C-F6A97A4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0C4D-B55E-4163-B4B9-74DA53BD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B2C2-72D4-4F07-A1EF-42B1DFAF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A256-C575-401D-BF12-E570AE9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6FB-C42F-4DC3-944D-0545A37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34F3-BE14-44CC-B483-37A99F2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082-019A-4EB1-A0DC-13996D0F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8C8-AEBD-42D1-8511-D592ECB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BB5F-6B04-425B-ADB1-D1FA74F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749-B75B-4284-9E6D-FA0F4EED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F59-0780-459D-B38C-FF552CAA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159-2D23-4C85-9CEF-5658BBC5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61E-7B4F-4BBB-8865-2C8C8479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E70-43F6-4B49-A867-C8B0CA1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76E-67FE-479F-8281-6676A2E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4F1-DBF7-4AB4-8A44-208DB83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D00-874D-4E79-92D3-F13ACDC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BED-16FE-4C70-BC5F-F10DFD50A6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E80-AA5B-4AE6-9249-410F2155C8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ational Hockey Leagu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timal Team Se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623640" y="4832280"/>
            <a:ext cx="226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gor Usha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il Bayram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lie Nach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vel Tomashev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ury Rezni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select 24 players from a total of 782 (filtered) p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 many decision variables for sol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igned each player a number and used 24 decision variables that could each be assigned the value of 1 to 7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ctive Fun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ize the overall value of the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negative weights for going past the allowed player position numb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country bonus for players from the sam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ystal 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33920" y="160020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ulation of player improvement or player injury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al distrib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n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Dev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.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lue of Player X Crystal Ball Data = Total Val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74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lary Cap &lt; $39,000,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 Played &gt;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one of each player on the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1503360"/>
            <a:ext cx="518148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no salary cap of $39 mill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best “bang for the buck” tea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 Salary C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st “Bang for the Buck”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812960"/>
            <a:ext cx="8610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way to measure team performance (How do players interact with each other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e of players is based on statistics we subjectively deem to be import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istics are backward looking – not necessarily indicative of future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del does not account for values of players with no past record of performance- i.e. league rook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way to test the model in real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ould be willing to bet that our team would at least make the second round of NHL playoffs!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looking for investors to buy the New York Rangers and to make them a winning franchise at half the payro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General Managers should use Solver and Crystal Ball to select their hockey team - it would save them a lot of useless time and money spent on scouting p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giving up our investment banking jobs to become hockey GMs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o is coming with u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 Descri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 Formu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ulation Resul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3530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we undertook this Projec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 Managers make good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think the sports industry lifestyle is conductive to our sensib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ckey is the only sport which every single member of our Decision Models project team knew something ab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(excluding Chuck) are still bitter that the US Olympic Hockey team upset the USSR in 1980.  We feel it never would have happened if we were in contro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e discovered that the job of NHL GM is no walk in the park!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igh salary, low performing teams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York Rangers -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only 1 Stanley Cup in 66 years, NO playoff appearances for 7 straight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iladelphia Flyers –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Last Stanley Cup win in 197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ronto Maple Leafs –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Last Stanley Cup win in 1967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s Angeles Kings –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Highest Payroll, NO Stanley Cup wins in franchise history.  Only 4 playoff appearances in last 11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better approach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borrowed from MLB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akland Athletics GM Billy Beane pioneered an approach to building a team that has been dubbed MoneyBall – MoneyBall is now in vogue throughout the leagu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ane studied the methods of a statistician, Bill Ja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mes analyzed volumes of data of player performances to draw new conclusions and refute conventional wisdoms about the g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mes created the science of “sabermetrics” and published his findings in a series Baseball Almana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thought this approach might work well in building a hockey t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 Descrip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group acts collectively as a NHL GM.  We need to optimally select 24 players to build a championship caliber te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yer Statistics from previous seas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yer Pos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 Pla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ntry Bon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ndom chance of injury or exceptional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ize team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ition of Player Perform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ign positive weights to desirable statis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gative weights to undesirable sta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ther statistics remain at 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Crystal Ball to simulate one sea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ilize 3 seasons of statistical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al player’s score is a function his statistical data and the relative importance of each statistical categ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63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tribution of Play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yers’ values follow normal distribution…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2286000"/>
          <a:ext cx="8839440" cy="42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3944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tribution of Play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players’ salaries do n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209680"/>
          <a:ext cx="8839440" cy="42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883944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20:07:21Z</dcterms:created>
  <dc:creator>Yury Reznikov</dc:creator>
  <dc:description/>
  <dc:language>en-US</dc:language>
  <cp:lastModifiedBy>Yury Reznikov</cp:lastModifiedBy>
  <dcterms:modified xsi:type="dcterms:W3CDTF">2006-04-24T01:01:06Z</dcterms:modified>
  <cp:revision>13</cp:revision>
  <dc:subject/>
  <dc:title>National Hockey League</dc:title>
</cp:coreProperties>
</file>